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19E4-5DAC-496C-A097-A4A52DDB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3A95-0460-42CF-BE0E-55D58EE0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96C5-5C70-4001-8074-480474A19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FD10-50F0-4C9A-917B-92434D487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F31A-1E8C-489F-BE29-1817BAF2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5BB2-FADD-43D9-A6AD-2CA5C7A6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BB0E-E36F-454A-9089-EAA0A087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AACF-8781-4B12-8CEF-6C236878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B839-AC0C-4941-8791-B0CF5FA5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8DA8-7197-467E-AAC2-A513D63C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ACFC-6079-42B9-95A8-06DDCCDA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E067-D5A7-4A83-A566-EE69BE10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C2BA-8857-4EE8-95ED-6C7E330EBB4C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411280" y="1000080"/>
            <a:ext cx="4176720" cy="5237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4600" y="131760"/>
            <a:ext cx="7931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Katsuhika Hokusa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ruta 3"/>
          <p:cNvSpPr/>
          <p:nvPr/>
        </p:nvSpPr>
        <p:spPr>
          <a:xfrm>
            <a:off x="3123000" y="6335640"/>
            <a:ext cx="27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Hokusai, Självporträtt ,184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54040" y="15908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rebecca.borg\Downloads\Σ64 på Wikimedia Commons.jpg"/>
          <p:cNvPicPr/>
          <p:nvPr/>
        </p:nvPicPr>
        <p:blipFill>
          <a:blip r:embed="rId2"/>
          <a:stretch/>
        </p:blipFill>
        <p:spPr>
          <a:xfrm>
            <a:off x="250920" y="404640"/>
            <a:ext cx="8532720" cy="5683320"/>
          </a:xfrm>
          <a:prstGeom prst="rect">
            <a:avLst/>
          </a:prstGeom>
          <a:ln w="0">
            <a:noFill/>
          </a:ln>
        </p:spPr>
      </p:pic>
      <p:sp>
        <p:nvSpPr>
          <p:cNvPr id="47" name="textruta 3"/>
          <p:cNvSpPr/>
          <p:nvPr/>
        </p:nvSpPr>
        <p:spPr>
          <a:xfrm>
            <a:off x="3371400" y="61387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Berget Fuji – sidan 15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4" descr="C:\Users\rebecca.borg\Desktop\800px-Hokusai33_red-fuji.jpg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5837400"/>
          </a:xfrm>
          <a:prstGeom prst="rect">
            <a:avLst/>
          </a:prstGeom>
          <a:ln w="0">
            <a:noFill/>
          </a:ln>
        </p:spPr>
      </p:pic>
      <p:sp>
        <p:nvSpPr>
          <p:cNvPr id="51" name="Rektangel 5"/>
          <p:cNvSpPr/>
          <p:nvPr/>
        </p:nvSpPr>
        <p:spPr>
          <a:xfrm>
            <a:off x="2518920" y="6097680"/>
            <a:ext cx="40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Hokusai, Gaifū kaisei, ca 1830 – sidan 16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179280" y="289080"/>
            <a:ext cx="8724960" cy="5802120"/>
          </a:xfrm>
          <a:prstGeom prst="rect">
            <a:avLst/>
          </a:prstGeom>
          <a:ln w="0">
            <a:noFill/>
          </a:ln>
        </p:spPr>
      </p:pic>
      <p:sp>
        <p:nvSpPr>
          <p:cNvPr id="55" name="Rektangel 3"/>
          <p:cNvSpPr/>
          <p:nvPr/>
        </p:nvSpPr>
        <p:spPr>
          <a:xfrm>
            <a:off x="1776240" y="6186600"/>
            <a:ext cx="55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Hokusai, Fukagawa Mannen-bashi shita, 1830 – sidan 16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rebecca.borg\Downloads\800px-Yoshida_at_Tokaido.jpg"/>
          <p:cNvPicPr/>
          <p:nvPr/>
        </p:nvPicPr>
        <p:blipFill>
          <a:blip r:embed="rId2"/>
          <a:stretch/>
        </p:blipFill>
        <p:spPr>
          <a:xfrm>
            <a:off x="320760" y="404640"/>
            <a:ext cx="8621640" cy="5712120"/>
          </a:xfrm>
          <a:prstGeom prst="rect">
            <a:avLst/>
          </a:prstGeom>
          <a:ln w="0">
            <a:noFill/>
          </a:ln>
        </p:spPr>
      </p:pic>
      <p:sp>
        <p:nvSpPr>
          <p:cNvPr id="59" name="Rektangel 3"/>
          <p:cNvSpPr/>
          <p:nvPr/>
        </p:nvSpPr>
        <p:spPr>
          <a:xfrm>
            <a:off x="2944080" y="611676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Tōkaidō Yoshida, 1830 – sidan 16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rebecca.borg\Downloads\800px-Flickr_-_…trialsanderrors_-_Hokusai,_Under_the_great_wave_off_Kanagawa,_ca._1832.jpg"/>
          <p:cNvPicPr/>
          <p:nvPr/>
        </p:nvPicPr>
        <p:blipFill>
          <a:blip r:embed="rId2"/>
          <a:stretch/>
        </p:blipFill>
        <p:spPr>
          <a:xfrm>
            <a:off x="324000" y="233280"/>
            <a:ext cx="8496000" cy="5875560"/>
          </a:xfrm>
          <a:prstGeom prst="rect">
            <a:avLst/>
          </a:prstGeom>
          <a:ln w="0">
            <a:noFill/>
          </a:ln>
        </p:spPr>
      </p:pic>
      <p:sp>
        <p:nvSpPr>
          <p:cNvPr id="63" name="textruta 3"/>
          <p:cNvSpPr/>
          <p:nvPr/>
        </p:nvSpPr>
        <p:spPr>
          <a:xfrm>
            <a:off x="2457720" y="6134040"/>
            <a:ext cx="42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Under vågen utanför Kanagawa – sidan 16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3680" y="159552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rebecca.borg\Downloads\771px-Edo_l142.jpg"/>
          <p:cNvPicPr/>
          <p:nvPr/>
        </p:nvPicPr>
        <p:blipFill>
          <a:blip r:embed="rId2"/>
          <a:stretch/>
        </p:blipFill>
        <p:spPr>
          <a:xfrm>
            <a:off x="826920" y="255600"/>
            <a:ext cx="7502760" cy="5837400"/>
          </a:xfrm>
          <a:prstGeom prst="rect">
            <a:avLst/>
          </a:prstGeom>
          <a:ln w="0">
            <a:noFill/>
          </a:ln>
        </p:spPr>
      </p:pic>
      <p:sp>
        <p:nvSpPr>
          <p:cNvPr id="67" name="Rektangel 5"/>
          <p:cNvSpPr/>
          <p:nvPr/>
        </p:nvSpPr>
        <p:spPr>
          <a:xfrm>
            <a:off x="539640" y="612144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känd konstnär, “Utsikt över Edo" bild på vikskärm, 1800-tal – sidan 17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09:57:12Z</dcterms:created>
  <dc:creator>Rebecca Borg</dc:creator>
  <dc:description/>
  <dc:language>en-US</dc:language>
  <cp:lastModifiedBy>Rebecca Borg</cp:lastModifiedBy>
  <dcterms:modified xsi:type="dcterms:W3CDTF">2011-03-23T12:26:02Z</dcterms:modified>
  <cp:revision>4</cp:revision>
  <dc:subject/>
  <dc:title>PowerPoint-presentation</dc:title>
</cp:coreProperties>
</file>